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FD34-D9D8-4FBC-B49C-4D3ADB488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onstitutes 98-99% of the matter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C3E2-C53E-4D01-959F-0212389E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D04A-44CF-4904-B8D3-3DEEE356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0A59-01BD-404F-9F3E-E7A46D4C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EC50-F2B1-44E0-8174-20C7FEC3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CDB6-0833-4F8A-AC65-521E7536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A05A-9B6E-498D-8488-CA4180B2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98E2-ABEF-4564-A1B8-940C6285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5BE9-ACC3-4BE7-BDEA-534023AF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6B42-00B8-4947-B8CE-9798EFF0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87AF-741B-4B9D-B131-9B9586EE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400A-1DA3-4FCE-820D-6D20BBC4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BA8C-924C-442C-A84A-C3B0F854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1425-07A6-42BF-86C3-E8D11917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694A-7A5C-4C1E-A030-FCC58E0F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DE5E-EC29-499B-9E30-2286D8A3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E3B1-9D0D-4BBA-856D-09DDF03A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28ED-BAA6-4C81-92E3-79AD5B70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7C86-1A2E-4563-94A1-77053573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FA05-47B3-4FDC-B935-C79DFD5E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A266-CC19-4C87-90CD-BA9B9105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73D8F-3E6C-40BC-9C6F-B045B16E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DA52C-3613-4EBA-8CE4-CC43133C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976D-679F-4DF5-93C7-40FF108A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DA5D-ED87-4A40-B498-5D776AA4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4CC8-A359-4003-B406-D87FC822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48986-6E67-463F-9D35-65DEA214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E1F4-C125-49E2-90CA-19F01A55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73AFA-73FB-40AC-BFAF-F32A2BE2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5028-30ED-45CB-9620-A701CC86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E321-D611-4740-A136-84C84E45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2850-43A9-4A63-9F7A-77D9D5A9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EBFB-9449-4649-BB33-4EE05D47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10F9-F87E-49AE-81EF-8EA7695E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F02D-6D06-4D3A-9A2B-2C6AD101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AF8E-9BE7-4EDA-B641-8FE929DE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2D98-1307-4F7F-A15B-621AF68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C179-B62A-42A1-991E-D3FDAAF62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6386-D584-43A0-995B-0507AD4FE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324D-B1E7-4D8D-A31B-00A8672A2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Developing_Inquiry_Activities-1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States of Matte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OOBLECK: 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x 2 parts cornstarch and 1 part wa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ur the water into a Ziploc b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food color to water (option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cornstarch a little bit at a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e bag and knead the contents as need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Oobleck when you can squeeze as a solid and pour as a liqu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a few drops of water if the Oobleck is crumb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Glurch: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ur 1 tablespoon of Elmer’s Glue into a snack-size Ziploc bag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1 tablespoon of a saturated Borax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food coloring (optiona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p the bag shut and begin kneading it to mix the cont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may take a few minut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re are three stat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f matter.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276360" y="2514240"/>
            <a:ext cx="2971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4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re are three stat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f matter.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276360" y="2514240"/>
            <a:ext cx="2971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4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4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ow many states of matter are there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are the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tates of Matt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838080" y="48769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et’s look at a candl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5909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at forms can matter take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191120" y="1676520"/>
            <a:ext cx="7682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343400" y="4343400"/>
            <a:ext cx="7682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>
            <a:hlinkClick r:id="rId1"/>
          </p:cNvPr>
          <p:cNvSpPr/>
          <p:nvPr/>
        </p:nvSpPr>
        <p:spPr>
          <a:xfrm>
            <a:off x="4114800" y="685800"/>
            <a:ext cx="685800" cy="53352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ow many states of matter are there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s this correc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296200" cy="4426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6248520" y="1981080"/>
            <a:ext cx="21333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atter exists in four states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414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9:55:44Z</dcterms:created>
  <dc:creator>Cynthia Moore</dc:creator>
  <dc:description/>
  <dc:language>en-US</dc:language>
  <cp:lastModifiedBy>Cynthia Moore</cp:lastModifiedBy>
  <dcterms:modified xsi:type="dcterms:W3CDTF">2011-01-26T20:24:56Z</dcterms:modified>
  <cp:revision>8</cp:revision>
  <dc:subject/>
  <dc:title>Slide 1</dc:title>
</cp:coreProperties>
</file>